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C5B-6436-47D6-9E34-0C1D2E7A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D59-F57E-4E6D-8E6E-60A79D53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282-688E-4A3B-AF19-2E5C5C6A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FD2-788E-455C-87FF-8A1D662F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235-B962-41BB-8E76-76713F69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6B0-B9E3-4626-BA5F-A9868F3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4B7-31CC-4BF2-8576-D489D183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6C4-C949-44D0-9489-33F64D25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FE4-5C41-423E-9F23-AE599B83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B56-9488-454C-B5F8-0336F78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7BC-5B0A-4E37-9FBB-C9C7376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4F0-F214-45EC-BB23-75B9EB3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D54-94BC-4AF8-A4E6-9B2A8D76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pd.ucf.edu/newsletter/industrial.jpg&amp;imgrefurl=http://www.forpd.ucf.edu/newsletter/FLN200610.html&amp;h=757&amp;w=1045&amp;sz=120&amp;hl=en&amp;start=9&amp;um=1&amp;tbnid=DMBcEt14dFn68M:&amp;tbnh=109&amp;tbnw=150&amp;prev=/images%3Fq%3DIndustrial%2BRevolution%26svnum%3D10%26um%3D1%26hl%3Den%26rls%3DADBS,ADBS:2007-25,ADBS: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The 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tion to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Revolu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ov't Investigation and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Factory Act 1833 - limited the hours and ages of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al Mines Regulation Act 1842 - banned the use of women and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abou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ed strikes to protest work condition and w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s were illegal until the latter part of the 19th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The actions of workers almost always led to vio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3124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Chartis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wanted to create a charter to protec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al suffrage for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Guarantee of certai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aid politicians: means an average person who is committed would become a politician because by being paid they could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Luddit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ed the teachings of "Ned Ludd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lieved machines were doing the work of men, and that men had the right to destroy the machines to save their job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uddites broke into many factories and smashed water fram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Luddites were hunted down and execu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ddites were seen as people who wanted to go backwar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ddites feared the machines would start to take ov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Utopian Philoso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ouis Blanc - idolized the sociali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obert Owen - New Lanark/New Har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2467080" cy="275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2114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ricultur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/Pair/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 What were key points concerning the Agricultural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as Britain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e Enclosure Acts and why were they signific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30920" y="4343400"/>
            <a:ext cx="1990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6480"/>
            <a:ext cx="685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ree Stages of the Industrial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chanization - 1750 - 1920 - Introduction of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2) Mass Production - 1920 - Ordering of machines.  Goods moved on an assembly line.  Henry Ford got credit for this method of production that increases quantity and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3) Automation - replacing workers with machines, they tried to get rid of people completely to increase quality.  The use of robots and computers ar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) De-industrialization - not sure if this stage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4952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381880" cy="253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705120" cy="256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434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to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054520" cy="21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De-indust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38280" y="1676520"/>
            <a:ext cx="51818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Problems of the Industrial Rev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Unemploy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machines took away traditional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wage labour was cheap.  People basically worked for nothing.  There was always someone else to take your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orking Condi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were very bad, low hours, hard work, and dangerous work.  No social programs at all.  14 - 18 hour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hild Lab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children as young as six were employed in sweat shops and mines.  Seen as small adults their developmental needs were ignored, and they were often physically and sexually ab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rban Growth/Slu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rapid growth of cities created huge slum areas where living conditions were extremely unsanitary and dangerous.  Violence and substance abuse were major social problems - Crime!! Crim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apid Population Grow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advances in medicine/science led to a drop in the death rate especially among children.  The result was a huge population expl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8:34:04Z</dcterms:created>
  <dc:creator>Ecole Plamondon School</dc:creator>
  <dc:description/>
  <dc:language>en-US</dc:language>
  <cp:lastModifiedBy>ripkensa</cp:lastModifiedBy>
  <dcterms:modified xsi:type="dcterms:W3CDTF">2010-01-20T21:46:05Z</dcterms:modified>
  <cp:revision>4</cp:revision>
  <dc:subject/>
  <dc:title>Slide 1</dc:title>
</cp:coreProperties>
</file>